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F23-B87B-48D6-8AD8-C010C28D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9E4-9FF0-48DC-ABD7-E7B4087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9A3-0B09-4E86-9A1B-124BEF02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712-ACB8-4429-AEF0-3D4465AA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CF4-1D5E-4947-AACB-D9694D9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3A1-A55A-4CE2-AC5B-993B97E0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EC6-4E4A-4512-9808-44E9AF39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DBE-F154-43B5-974F-548AF997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809-97E1-4C9C-8ABD-F46A63F4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236-932F-4E1B-9056-8E96E60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150-FECA-4F50-BF10-C888134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6C5-CD04-4393-BD6E-3EA6948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034-DC1C-4A62-8F42-672809F2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127" t="17699" r="6250" b="18753"/>
          <a:stretch/>
        </p:blipFill>
        <p:spPr>
          <a:xfrm>
            <a:off x="0" y="762120"/>
            <a:ext cx="89154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67" t="9376" r="8594" b="12502"/>
          <a:stretch/>
        </p:blipFill>
        <p:spPr>
          <a:xfrm>
            <a:off x="0" y="22860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482" t="11788" r="6482" b="19186"/>
          <a:stretch/>
        </p:blipFill>
        <p:spPr>
          <a:xfrm>
            <a:off x="0" y="68580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032" t="9376" r="7811" b="13540"/>
          <a:stretch/>
        </p:blipFill>
        <p:spPr>
          <a:xfrm>
            <a:off x="0" y="12240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4065" t="31250" r="57813" b="37501"/>
          <a:stretch/>
        </p:blipFill>
        <p:spPr>
          <a:xfrm>
            <a:off x="914400" y="254160"/>
            <a:ext cx="693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282" t="28218" r="57813" b="39588"/>
          <a:stretch/>
        </p:blipFill>
        <p:spPr>
          <a:xfrm>
            <a:off x="533520" y="228600"/>
            <a:ext cx="75438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282" t="23960" r="59378" b="43752"/>
          <a:stretch/>
        </p:blipFill>
        <p:spPr>
          <a:xfrm>
            <a:off x="838080" y="378000"/>
            <a:ext cx="7315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54:28Z</dcterms:created>
  <dc:creator>nbdoe</dc:creator>
  <dc:description/>
  <dc:language>en-US</dc:language>
  <cp:lastModifiedBy>nbdoe</cp:lastModifiedBy>
  <dcterms:modified xsi:type="dcterms:W3CDTF">2007-03-21T01:16:20Z</dcterms:modified>
  <cp:revision>3</cp:revision>
  <dc:subject/>
  <dc:title>Slide 1</dc:title>
</cp:coreProperties>
</file>